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9FB2-4E1F-43E1-8A58-47A998B9B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EEE2-D50F-43DB-B518-04013C25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545F-EFD4-4371-97A6-39A31F3C5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027E-FC00-4F87-893C-53CA7EC9B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E7AE-8BA5-4ED8-AE68-B348CBE6B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D744-E018-4B49-B551-5E5F1D82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1983-E420-4A6A-8EF1-6D4E5CB1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31B9-6E36-4584-9225-A4E05785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B975-667E-48D2-98A5-12506396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7EC1-AF79-48EB-BEA2-B5DB5747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4526-B1BD-43B1-82D3-F50CEEC0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A85C-EABF-445B-A982-7046AE9C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CEDB-EC53-4B91-889A-BF58F85C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8CA8-6729-4022-AF29-091B6BC1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50E2-EA8D-44EE-9096-E732AB73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BA8A-B62F-4016-9DC5-B4DEBA03F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EE4F-BFEF-405F-855A-931BDF8D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A363-0EF1-490A-BD6E-086A2907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2AF6-BE7C-41FB-938A-971408E8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B108-B888-4F74-8C34-023CAF80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D183-28FE-49EE-AB11-2927F50E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9F8C-B5F7-4833-BFE6-C6A013D0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4E74-71F1-4482-9B12-5BB39D61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24B6-96E5-436F-8D9F-564F930C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A198-0E05-4603-BB35-AC487DD248DD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E861-9FD1-43FB-A84C-145724BB7F4E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ileg.sga.df.gov.br/sileg/legislacao/Distrital/Decretos/Decretos%202006/dec_26742_06.htm" TargetMode="External"/><Relationship Id="rId3" Type="http://schemas.openxmlformats.org/officeDocument/2006/relationships/hyperlink" Target="http://sileg.sga.df.gov.br/sileg/legislacao/Distrital/Decretos/Decretos%202006/dec_26742_06.htm" TargetMode="External"/><Relationship Id="rId4" Type="http://schemas.openxmlformats.org/officeDocument/2006/relationships/hyperlink" Target="http://sileg.sga.df.gov.br/sileg/legislacao/Distrital/Decretos/Decretos%202006/dec_26742_06.htm" TargetMode="External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5ffff"/>
                </a:solidFill>
                <a:latin typeface="Tahoma"/>
              </a:rPr>
              <a:t>EXPERIÊNCIA DO CRHDF NA REGULAMENTAÇÃO DE LEIS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129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TRABALHO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DA CTC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692000" y="1773360"/>
            <a:ext cx="7451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Art. 2º São competências da Câmara Técnica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I - propor e analisar mecanismos de fomento e estímulo ao desenvolvimento científico e tecnológico em matérias ligadas a recursos hídricos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II - propor diretrizes gerais para capacitação técnica buscando a excelência na área de gestão de recursos hídricos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III - propor ações, estudos e pesquisas, na área de recursos hídricos, visando a melhoria de tecnologias, equipamentos e métodos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IV - propor e analisar mecanismos de difusão de experiências e conhecimento no conjunto da sociedade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V – propor diretrizes para o aproveitamento das águas pluviais e o reúso dos recursos hídricos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VI – propor diretrizes para gestão racional dos planos, projetos e obras de drenagem pluvial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VII – propor diretrizes para proteção, conservação, economia e combate ao desperdício dos recursos hídricos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VIII – analisar, estudar e emitir pareceres sobre assuntos afins; 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IX - as competências constantes do Regimento Interno do CRH e outras que vierem a ser delegadas pelo seu Plenári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5ffff"/>
                </a:solidFill>
                <a:latin typeface="Tahoma"/>
              </a:rPr>
              <a:t>Membros da CTCT/CRHDF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82803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-3693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Tahoma"/>
              </a:rPr>
              <a:t>Secretaria de Estado de Meio Ambiente e Recursos Hídricos  - SEMARH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9360" indent="-3693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Tahoma"/>
              </a:rPr>
              <a:t>Agência Reguladora de Águas e Saneamento do Distrito Federal – ADAS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9360" indent="-3693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Tahoma"/>
              </a:rPr>
              <a:t>Companhia de Saneamento do Distrito Federal – CAESB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9360" indent="-3693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Tahoma"/>
              </a:rPr>
              <a:t>Universidade de Brasília – UnB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9360" indent="-3693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Tahoma"/>
              </a:rPr>
              <a:t>Empresa Brasileira de Pesquisa Agropecuária – EMBRAP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9360" indent="-3693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Tahoma"/>
              </a:rPr>
              <a:t>Empresa de Assistência Técnica e Extensão Rural - EMATE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9360" indent="-3693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Tahoma"/>
              </a:rPr>
              <a:t>Secretaria para o Desenvolvimento da Ciência e Tecnologia – SDC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9360" indent="-3693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Tahoma"/>
              </a:rPr>
              <a:t>Associação Brasileira das Instituições de Pesquisas Tecnológicas – ABIPTI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5ffff"/>
                </a:solidFill>
                <a:latin typeface="Tahoma"/>
              </a:rPr>
              <a:t>LEGISLAÇÃO DISTRITAL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2184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LEI Nº 2.616, DE 26 DE OUTUBRO DE 2000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Dispõe sobre a utilização de equipamentos que economizam água nas instalações hidráulicas e sanitárias dos edifícios públicos e privados destinados a uso não residencial no âmbito do Distrito Federa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8000" y="2852280"/>
            <a:ext cx="8280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Tahoma"/>
              </a:rPr>
              <a:t>LEI N° 2.977, DE 10 DE MAIO DE 2002</a:t>
            </a:r>
            <a:br>
              <a:rPr sz="1800"/>
            </a:br>
            <a:r>
              <a:rPr b="1" lang="pt-PT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Tahoma"/>
              </a:rPr>
              <a:t>Dispõe  sobre a instalação   de   equipamento    eliminador    de   ar    na tubulação do sistema de abastecimento  de águ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4076640"/>
            <a:ext cx="82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485280" indent="-4852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LEI Nº 2.978, DE 10 DE MAIO DE 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112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Dispõe sobre a obrigatoriedade de instalação de recarga artificial de aqüíferos nas propriedades rurais e lotes em condomínios atendidos por poços tubulares para abastecimento de águ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5373720"/>
            <a:ext cx="80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5ffff"/>
                </a:solidFill>
                <a:latin typeface="Tahoma"/>
              </a:rPr>
              <a:t>LEGISLAÇÃO DISTRITAL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LEI Nº 2.978, DE 10 DE MAIO DE 200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Dispõe sobre a obrigatoriedade de instalação de recarga artificial de aqüíferos nas propriedades rurais e lotes em condomínios atendidos por poços tubulares para abastecimento de águ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11280" y="4724280"/>
            <a:ext cx="8075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LEI Nº 3.677, DE 13 DE OUTUBRO DE 2005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Dispõe sobre a obrigatoriedade da instalação de reservatórios de captação de água para as unidades habitacionais do Distrito Federal e dá outras providência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2708280"/>
            <a:ext cx="806436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9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LEI Nº 3.557, DE 18 DE JANEIRO DE 2005</a:t>
            </a:r>
            <a:br>
              <a:rPr sz="1800"/>
            </a:br>
            <a:r>
              <a:rPr b="1" lang="pt-PT" sz="1800" spc="-1" strike="noStrike">
                <a:solidFill>
                  <a:srgbClr val="ffffff"/>
                </a:solidFill>
                <a:latin typeface="Tahoma"/>
              </a:rPr>
              <a:t>(VIDE - </a:t>
            </a:r>
            <a:r>
              <a:rPr b="0" lang="pt-BR" sz="1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Decreto </a:t>
            </a:r>
            <a:r>
              <a:rPr b="0" lang="pt-BR" sz="1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nº</a:t>
            </a:r>
            <a:r>
              <a:rPr b="0" lang="pt-BR" sz="1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 26.742, de 20 de abril de 2006</a:t>
            </a: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Dispõe sobre a individualização de instalação de hidrômetro nas         edificações verticais residenciais e nas de uso misto e nos  condomínios residenciais do Distrito Federal, e dá outras providê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5ffff"/>
                </a:solidFill>
                <a:latin typeface="Tahoma"/>
              </a:rPr>
              <a:t>LEGISLAÇÃO DISTRITAL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2707920"/>
            <a:ext cx="8075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LEI Nº 3.793, DE 02 DE FEVEREIRO DE 2006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Institui, no Distrito Federal, o sistema de recarga artificial de aqüíferos e dá outras providência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1268280"/>
            <a:ext cx="821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buClr>
                <a:srgbClr val="ffffff"/>
              </a:buClr>
              <a:buSzPct val="65000"/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LEI Nº 3.693, DE 08 DE NOVEMBRO DE 2005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Dispõe sobre a Política de Irrigação e Drenagem no âmbito do Distrito Federal e dá outras providência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ahoma"/>
              </a:rPr>
              <a:t>Concedida liminar pelo TJDF para ADIN solicitada pelo GDF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3933720"/>
            <a:ext cx="7704000" cy="11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LEI Nº 3.812, DE 08 DE FEVEREIRO DE 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Torna obrigatório o reaproveitamento da água utilizada nos postos de lavagem de veícul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530064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90000"/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LEI Nº 3.835, DE 27 DE MARÇO DE 2006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cc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Dispõe sobre a pavimentação de estacionamentos no âmbito do Distrito Federal e dá outras providê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5ffff"/>
                </a:solidFill>
                <a:latin typeface="Tahoma"/>
              </a:rPr>
              <a:t>LEGISLAÇÃO DISTRIT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LEI Nº 3.835, DE 27 DE MARÇO DE 2006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Dispõe sobre a pavimentação de estacionamentos no âmbito do Distrito Federal e dá outras providênci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" y="3500280"/>
            <a:ext cx="8351640" cy="25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Art. 1º Todas as áreas abertas destinadas a estacionamentos, públicos e privados, no Distrito Federal, deverão utilizar pavimentação permeável.</a:t>
            </a: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ffcc00"/>
                </a:solidFill>
                <a:latin typeface="Tahoma"/>
              </a:rPr>
              <a:t>Não exige regulamentaçã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1" lang="pt-BR" sz="2400" spc="-1" strike="noStrike">
                <a:solidFill>
                  <a:srgbClr val="ffcc00"/>
                </a:solidFill>
                <a:latin typeface="Tahoma"/>
              </a:rPr>
              <a:t>Necessita algumas correçõ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5ffff"/>
                </a:solidFill>
                <a:latin typeface="Tahoma"/>
              </a:rPr>
              <a:t>LEGISLAÇÃO DISTRIT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35290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LEI Nº 2.616, DE 26 DE OUTUBRO DE 2000 </a:t>
            </a: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Dispõe sobre a utilização de equipamentos que economizam água nas instalações hidráulicas e sanitárias dos edifícios públicos e privados destinados a uso não residencial no âmbito do Distrito Federal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cc00"/>
                </a:solidFill>
                <a:latin typeface="Tahoma"/>
              </a:rPr>
              <a:t>Elaborada minuta de Resoluç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cc00"/>
                </a:solidFill>
                <a:latin typeface="Tahoma"/>
              </a:rPr>
              <a:t>Participação da Comissão Permanente de Monitoramento do Código de Edificações do DF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708360" y="1125360"/>
            <a:ext cx="5184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Art. 1° Torna-se obrigatório o uso de equipamentos que economizam água nas instalações hidráulicas e sanitárias dos edifícios públicos e privados destinados a uso não residencial no âmbito do Distrito Federal.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§ 2° Consideram-se equipamentos que economizam os produtos que visem ao uso racional da água, sejam eles dos tipos monocomando, termostato, temporizados ou eletrônicos, e que sejam, principalmente, componentes de lavatórios, mictórios, bacias sanitárias, demais itens do sistema de descarga e outros dispositivos como torneiras, chuveiros, misturadores e arejador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5ffff"/>
                </a:solidFill>
                <a:latin typeface="Tahoma"/>
              </a:rPr>
              <a:t>LEGISLAÇÃO DISTRIT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316872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LEI Nº 3.812, DE 08 DE FEVEREIRO DE 2006 que torna obrigatório o reaproveitamento da água utilizada nos postos de lavagem de veícul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ahoma"/>
              </a:rPr>
              <a:t>Minuta elaborad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ahoma"/>
              </a:rPr>
              <a:t>SINPETRO interess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3492360" y="1557360"/>
            <a:ext cx="54007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ahoma"/>
              </a:rPr>
              <a:t>Art. 1º É obrigatória a instalação de filtros em todos os postos de lavagem de veículos para reutilização da água, preferencialmente, na limpeza de veículos.</a:t>
            </a:r>
            <a:br>
              <a:rPr sz="2200"/>
            </a:br>
            <a:br>
              <a:rPr sz="2200"/>
            </a:br>
            <a:r>
              <a:rPr b="1" lang="pt-BR" sz="2200" spc="-1" strike="noStrike">
                <a:solidFill>
                  <a:srgbClr val="ffffff"/>
                </a:solidFill>
                <a:latin typeface="Tahoma"/>
              </a:rPr>
              <a:t>Art. 2º Toda e qualquer adequação nos postos ficará a expensas dos respectivos proprietários.</a:t>
            </a:r>
            <a:br>
              <a:rPr sz="2200"/>
            </a:br>
            <a:br>
              <a:rPr sz="2200"/>
            </a:br>
            <a:r>
              <a:rPr b="1" lang="pt-BR" sz="2200" spc="-1" strike="noStrike">
                <a:solidFill>
                  <a:srgbClr val="ffffff"/>
                </a:solidFill>
                <a:latin typeface="Tahoma"/>
              </a:rPr>
              <a:t>Art. 3º A concessão ou renovação de alvará de funcionamento ficará condicionada ao cumprimento desta Lei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04:22:44Z</dcterms:created>
  <dc:creator>Paulo Ricardo</dc:creator>
  <dc:description/>
  <dc:language>en-US</dc:language>
  <cp:lastModifiedBy>Tereza Cristina Esmeraldo de Oliveira</cp:lastModifiedBy>
  <dcterms:modified xsi:type="dcterms:W3CDTF">2006-11-27T16:32:28Z</dcterms:modified>
  <cp:revision>5</cp:revision>
  <dc:subject/>
  <dc:title>EXPERIÊNCIA DO CRHDF NA REGULAMENTAÇÃO DE LEI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